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EE7-73F9-47C9-B624-DD01F84A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6C8-0A83-4CB0-87A4-0B16DE7D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7B9-3DF8-45FF-A78A-78204604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E9A-86DA-4B4B-980C-31AC915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69F-2BAC-4E36-AF51-311C13F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B72-2237-4728-A1EB-2CE80C5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566-E411-4694-974D-F7B19F72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687-DD4B-4A14-845D-3B712337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72F-7FA0-4D6A-8FE4-A50AAD7F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328-0C09-4B46-9619-92CB5CD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9EB-3DF8-41C1-ACB5-D93A3CA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439-7034-4395-8AE9-0BAB42D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681-9039-4BAA-AD54-83AD21FD36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istory Knowledge Organiser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rld War II 1939-45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640" y="189000"/>
            <a:ext cx="1942920" cy="374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Topic 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ied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ttle of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litzkri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h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ef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pag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su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o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vac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203480" y="846000"/>
            <a:ext cx="1511280" cy="126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236000" y="146160"/>
            <a:ext cx="1908000" cy="1914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843280" y="1503360"/>
            <a:ext cx="4572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Key Historical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 couldn't Britain stop Hitler between 1939-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important were Dunkirk and the Battle of Brit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battles were turning points in the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 did the Battle of the Atlantic frighten Churchi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did the war 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was life like on the home fro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did the war change people’s l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08000" y="3997440"/>
            <a:ext cx="2682720" cy="246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ntenc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evidence s useful becau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source sugges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My conclusi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ne similarit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ere are some of 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s a result of th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first facto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cond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 am considering the following issu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2987640" y="5027760"/>
            <a:ext cx="194328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5219640" y="5300640"/>
            <a:ext cx="1581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12:34Z</dcterms:created>
  <dc:creator>Wombwell High School</dc:creator>
  <dc:description/>
  <dc:language>en-US</dc:language>
  <cp:lastModifiedBy>E.Rhodes</cp:lastModifiedBy>
  <dcterms:modified xsi:type="dcterms:W3CDTF">2023-05-02T13:41:52Z</dcterms:modified>
  <cp:revision>17</cp:revision>
  <dc:subject/>
  <dc:title>Why Had International Peace Collapsed by 1939?</dc:title>
</cp:coreProperties>
</file>